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937C-37DD-445D-800A-700DCCB28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244C-CE62-4C11-8E05-08DB6F0CD1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F1F2-AADC-4418-8CD1-D005FD748F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3F6D-F957-40AB-B4E2-2B82516699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C8EC-F273-4C2D-BF31-D1F8F1D58D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9AF4-87EA-4E24-A613-04F69AC8BB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542-C2B0-4C72-BBD5-87FC2FD3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9C7-C4DE-48E7-9F52-CA5426F6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E24-C4CA-46FD-991A-2F732087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6AD-3D7C-47A3-8A3C-3FF3E774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FA8-B73A-4E1E-846E-C3FD8763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4BB-D82F-4517-AF9F-05A703B5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13D-8670-4A39-956E-E14C1072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01E-DC33-46BB-ACE1-31E10640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17D-DBD1-495E-90E9-0CFB9F07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50C-BF94-428C-BF42-06D7C2F7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1DC-4BF0-4195-A901-201C97A8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875-0D7F-4B07-BC9D-1EF0097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22A5-6347-4BEE-9C9B-3C75D4A0C9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he Triangle-ope"/>
          <p:cNvPicPr/>
          <p:nvPr/>
        </p:nvPicPr>
        <p:blipFill>
          <a:blip r:embed="rId1"/>
          <a:stretch/>
        </p:blipFill>
        <p:spPr>
          <a:xfrm>
            <a:off x="152280" y="2362320"/>
            <a:ext cx="8796600" cy="1131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882520" y="5979960"/>
            <a:ext cx="35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ed from:  Play by the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llow the directions carefully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animal has a body shaped like a big triang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s head is shaped like a bumpy circ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has long legs, and each of its feet has three toes with a claw on the end of each to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s tail is very long and covered with fur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s body has four large spots and three smaller spot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s eyes are larg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s mouth is sma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s nose is also small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 noticed two long, curved horns on the top of its hea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Triangle-ope Listening"/>
          <p:cNvPicPr/>
          <p:nvPr/>
        </p:nvPicPr>
        <p:blipFill>
          <a:blip r:embed="rId1"/>
          <a:stretch/>
        </p:blipFill>
        <p:spPr>
          <a:xfrm>
            <a:off x="228600" y="1600200"/>
            <a:ext cx="8705880" cy="456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14400" y="152280"/>
            <a:ext cx="702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your trianle-ope look li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22:45:44Z</dcterms:created>
  <dc:creator>Heidi</dc:creator>
  <dc:description/>
  <dc:language>en-US</dc:language>
  <cp:lastModifiedBy>Granite Schools</cp:lastModifiedBy>
  <dcterms:modified xsi:type="dcterms:W3CDTF">2011-09-28T18:52:04Z</dcterms:modified>
  <cp:revision>6</cp:revision>
  <dc:subject/>
  <dc:title>Slide 1</dc:title>
</cp:coreProperties>
</file>